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C69-29BE-463E-9AE3-B0BC863A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980-4344-4259-B1C5-DCB4416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98F-CCE9-41BA-917A-AEFD8A2F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93B-D37C-4867-B47B-3DE9975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655-192B-4129-9576-4A5ED961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391A-8980-422D-8613-8FBD0E0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A205-E727-4AE6-8EDE-B7B5C1F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B8B-1B1C-42DA-9217-471100F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9655-018F-4C6D-A10D-5C3F0F42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0EB2-AE0D-4A2E-B47B-B3F64E46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8B9C-1564-4C42-B209-CA2FC53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AC8-BE0E-49B2-A816-E5F79C58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4E7E-43AC-45EC-8A99-002D987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080D-A317-40D3-8166-154EACC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EA45-4476-4FAB-975B-389D0AF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2202-AB70-4801-979A-01D1A46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4154-BB0D-47B3-9947-58CF8629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605-1325-4EE4-9134-42791F9E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1F2-8082-4C21-BF68-A3F041D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8BA-E61B-47DE-AEEB-33420B2C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29E-BC4B-48CF-9E00-FF0BFC0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B47-CDA9-48E0-85AD-D794425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BE5-C9EF-4630-8BBE-6089883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5A9-9781-4CD5-98B8-D2E7C48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0F8C-A841-4A5F-9BED-398F8EAFD0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445-3BCA-475B-9FBA-E0220ACD34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antasy and Real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Grade Reading Ski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and Re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A realistic story could really happen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A fantasy tells about something that could never happen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Look for clues in a story to tell if something could really happen or not.  An animal that talks, acts, and things the way people do tells the reader the story is a fantasy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The sheep told his master that he was ready to be sheare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2510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Jake skated down the street on his skateboar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62720" y="2895480"/>
            <a:ext cx="30351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The stars twinkled in the sky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451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My dog looked at me and asked for more foo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1:58:55Z</dcterms:created>
  <dc:creator> </dc:creator>
  <dc:description/>
  <dc:language>en-US</dc:language>
  <cp:lastModifiedBy> </cp:lastModifiedBy>
  <dcterms:modified xsi:type="dcterms:W3CDTF">2007-09-26T02:08:28Z</dcterms:modified>
  <cp:revision>2</cp:revision>
  <dc:subject/>
  <dc:title>Fantasy and Reality</dc:title>
</cp:coreProperties>
</file>